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B7E-4C72-443F-8A97-1ED0C84E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405-F48E-408D-9178-DEB14CB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90ACC-5D32-4F08-801C-4527B713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98439-D164-4177-BB23-1FF34E23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9165A-EC1D-45C9-A328-CAC307B6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D0A79-8295-468B-B622-DAEC6B8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C5551-DE03-4D9D-B5D1-E35AC71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F15F9-8547-4EFD-A2B4-C383872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F5BBF-7925-42DC-A097-A81D958E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480AB-9300-4BB7-996F-B1FE02F3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7CFA1-8D9B-4901-A171-A4950CDC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40E1D-BC62-40F1-A4D7-C914F182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BB6-1BCA-47D5-84A7-02E685ED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A7A5C-907E-49AF-9FA4-FA0EC74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20E27-791C-468B-B4EB-045617CA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DD74B-B9F2-4C62-8E56-324C89F1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A7B61-9A35-4505-A1C6-7CF066F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61EC3-9EF6-4DBA-A872-DAAFA52A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0F782-E6D7-41E2-809C-83681A0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431CB-A1B8-43E3-9309-52B52FFE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17FBC-8295-4213-8236-2602F39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7DEAE-0E3B-42CA-B7EA-6EB6264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8A9FD-E475-452B-9FAB-0B9E6724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76F-7BD8-4B01-BD10-BD8210E2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C8827-9B0C-44F1-8F50-E8EE7C6D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F9F55-0E3A-4406-9D71-5AEDEF20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F5203-166B-44D9-98B5-42A604C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23CD8-50F5-474C-B196-42700939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7A1F2-E8E8-443E-81D9-0E526226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62606-BAE3-46E9-97B3-32A3C35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B62B9-E829-4A00-A24E-1FCA8E3A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D454F-19BB-4C19-BE2B-CADBBE92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B5D89-79A1-41F1-9121-806298B2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68BBA-BA06-47DE-957A-3E3FB293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7342-2952-4C01-B2CB-203AE35C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114E7-381C-42DA-9A3D-0483CC6D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8AF39-E307-47D3-AB67-2B9AED8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18579-AEA7-42FA-9556-23C7D708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01EAC-F28E-45A5-8B90-2311FF79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F1631-2323-44A5-9428-CDA7CCF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39D22-F75C-4BFE-BBB4-1CE0CB3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20BA0-4513-4FA1-9616-A56AF370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D9A1-79F1-4DA6-B6D9-CED68879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A70ED-1219-4C44-977A-80F0D65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A772D-F3FC-420E-A8C2-DE32380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0F2C-AE1E-40C4-9CFA-99D1586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05352-52D4-4127-9140-4F68877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A3064-AFDF-44B3-A9B4-52EAE73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F6CD4-7DB1-4A0F-BAC6-CEB9F54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4B9B1-FF75-413F-B311-D4447058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38C84-5BF5-4689-9257-85C18F4D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DBB7B-911A-4791-A6C6-66789F39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06A0C-2A33-4369-9D4B-7BDC1638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36EE2-84E8-463B-915E-05087F0A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989A-EBE2-418A-96C1-0250BD24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4831A-6B95-4238-A8F1-A34D859F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F8E-7D40-4B95-9DEE-BF0BA709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03A2F-8AFA-4FCD-89CD-5DEAE4C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3B195-17B8-4387-BF84-E00F79AB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DED51-62DA-484C-A121-DC792542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2A16C-6152-4C45-B18B-6B015E3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6EE2B-27B3-4F57-82C3-A4ADBEE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16D2F-9C63-4DE8-8BA1-AE10BAFD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E5A0F-D0C6-46A3-84DE-C242C6F2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B725F-F286-4E41-8AEA-275B8441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4DF92-CACB-497E-AFCF-907429C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C6565-CE77-4511-BE66-3ECB6E28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E24-99D2-458F-82F9-660205BB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3667B-6086-4CF1-B3B6-75B0C7A7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BC04E-2213-4DBD-B192-DF253DB4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38572-B0DD-468F-9886-C94DDEC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FAC803-025B-46D3-914B-524B08BF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3B931-9A79-433B-BB1D-E9D1F4DC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4E1CA-173C-4CFB-B0C8-CF50A0E1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2E62F-3544-4C26-AC04-12C86BE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F44B2-94BD-4D73-AA8A-CE3626DE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0B9A7-058A-4FE1-966D-57F5E944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907F05-5A30-431F-966A-C9996E59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55D-9069-4813-BDC6-C8CF4F4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2C18B-D2E7-4CB2-AE0E-E0B3E818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35AD9B-CEE6-41CB-89DF-0FD3CF48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049FA-9DC0-4A4C-83F7-9494060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E384BB-DAB6-451C-BC69-18AC664C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CB396-A79D-4EDA-8F07-F1FC2C0A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377A4-6555-4337-8351-7B5B099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AB26E-05BE-415B-BE62-12DBB712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B54AC-8EAE-484A-87CD-20EE1ED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E6CDC-F2A7-4C14-B76D-9BD265CA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955A09-19DD-4369-A69B-16E539F0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4C6C-CC90-40F6-A181-4168BB8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73F4D-89D0-47B1-83A3-A11A0522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9DFF9B-1F7C-4063-8E42-8A0986D9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42B9C4-0C4B-4F64-90A0-465911FC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82BDA-F9A4-41AF-929B-0AF615D2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E2AB5-C069-4E49-99EB-2AB56C89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929EB-254F-4B1B-8C4A-D0B36E6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E00A7C-DDB5-4C00-93F1-4F51D8E8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36EC3-151F-4313-A85F-7279459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D8908-E388-4812-9131-17781BE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CD831-80C1-4FA6-9F2A-0437837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58A7-4B47-49CC-844C-F5F5E90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8C009B-C35C-4AB8-9F70-726BD2B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BFD0E-378E-411D-88C1-5E3EE3CC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36647-7E5A-45C2-A40E-3B4DC336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A5D36-A2B9-4F3C-9A9A-2C9EBF10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1E1A14-A6B7-4FCA-AFDC-BAD02A0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4CECB-9A4D-44ED-8166-9B1C83B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2EBA1-2D2D-46AE-B0B2-659B9E2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08906-8461-4E36-A5CD-DF6AC90B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C6B307-CD2C-4B5F-8B9D-1C5F7C5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0E59B-D2D9-421F-B45E-4712D4D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010-9E38-4A88-8008-EE8E5204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5879-7F9C-4F5B-A26B-4382066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5DAEB-74FA-4BCA-80FB-BD27F61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7D563-72B4-483C-84D1-50DBB98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F0252-D65B-4F7F-A230-141B06F6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CC923-9E1C-46BF-969B-6488F3CC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8EF81-00B9-48DF-9F82-0709A8C9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51455-B4C1-40C4-8CDA-87FE020F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40643-E8F4-4DB8-A50A-CC2D3D0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BA3E7-3572-40F7-943B-992F9DA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3FB71E-F125-41FC-8697-EE646CB5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65AD9-1D49-4EF3-82B4-57B032BB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83E-9631-4B3F-B8C0-AE94C18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A6238-5D6F-475E-AE3E-77EC496D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3DB2E-634A-4B64-9578-C5EBFAB7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58B23-99DB-48FD-A11A-9E1C6F3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F0785-C06F-458F-B949-CC449F6D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43BDD-1620-4A7E-9E62-0D5B387E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9E74B-0B40-4AC5-8648-54ED93DC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8A3EC-3A69-4E53-8882-09F6A349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B58D4-496E-429C-AA7C-DD97BCC5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53C9BB-F769-4004-8E1E-6455B43C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33149-10B9-415B-A2BF-7BEBFAA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4D88-72FE-44D0-B97F-2B37C00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EFED8-E990-42A8-943B-40290C28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65943-35CB-4924-B647-24531F10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F033F-0BE2-4C42-A556-20999D3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DD340-7889-4A59-8FFC-A44F5FC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15A1B-12EC-4376-AFEB-6F325C8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FAEDF-B243-45FC-8126-D0EF6FD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66C30-4E35-46E9-9992-8B802A40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1B894-8910-44AB-BF0E-14AB106F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D2CF2-20F8-4188-8487-4B1A122B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86C552-FA5A-4228-A2B1-9E44FB0B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43F5-FB98-4D36-AD7F-709552A4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E91A09-3F59-4FD4-8115-CB525EE8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E709A-63ED-4928-8C2E-7EEFF360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92C27-7AE1-40E3-922D-CF38B83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0A8C46-DDB8-4417-ADC8-7BD6885B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1FD8A1-354C-474C-AFE3-4C8F27E7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B03E25-E116-4C7C-903F-EF49C21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8F5DD-64D6-43D9-ABF4-933B742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4A0CC-91C1-4B86-93F3-495A9DA0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1DFB44-BAAE-42F4-A06E-602F203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DBD09-861C-4550-869D-9C86A1F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312-E2F9-4D3D-916B-838CDBAC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55FCE-E54F-4E7C-9C38-6791893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01834A-3E25-4F30-90A7-2CC42E80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6F254-0138-4311-A131-02C8870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FD566-F123-4F69-BBD0-5CCB2CE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94D4F-3939-460D-907D-4D524BAA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1499A-4192-447E-99F4-9171E71F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3ABA1-6714-40CA-93CC-7554693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44070-08D0-46CF-97DE-82D546D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CA7B0-AB66-4FBF-A66A-2D03E46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2C1846-5BAD-4B80-B327-30CBF2BA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2451-D2A8-4E28-8D00-4107AF23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446BA-261F-4595-B0E4-F4E62A5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75AB0-98C4-40C4-8F06-1FC1D30D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40FBF-D5B8-40F2-84B1-DAE864B7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8CBD68-9607-4DD4-ACB3-77173D47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B5B9E-E379-4D0F-8361-7BD4C2AC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C1A2BC-3598-4D0C-A15C-F1279BA8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3DAE4E-2578-4F92-964E-A0191D6F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ABFD3-BAB1-4F8C-9EA4-39270F6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B55AA7-C68E-4C48-B5B6-E751C68F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B0042-1E78-4B54-B353-A14790C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98C6-054A-4B4A-89CA-00C7296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1B2ADD-18CE-422B-A4C4-BABA590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7C952-9AE4-4032-8AA1-0F9706B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435125-89F1-4F7B-ABB9-BE57A0F7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503034-478F-427F-A32E-C79FFC91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EA0EE5-2D2C-4CC8-921C-533376E2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2F3D2A-4936-4D69-AF29-A30E2884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B1FB50-7EF6-4A2F-B573-ED4D0224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135961-7579-4E12-A888-FE9F3B9E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4D1CA-75F9-4293-B8DC-B88586E8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7B6208-FE31-491F-B320-61BA426B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FA86-1B6A-433F-B36B-367CD9FD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CEA2E6-636B-4D6C-9851-8B389A5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90933B-551A-4986-BD2B-2C4F425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6B08A-73BF-4B94-AD9A-A1BEE2B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0C3A5-6EA1-405A-862D-4E8EA9DF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2408D-2757-4147-8979-6D91303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6F20B1-C9E6-479D-8B2B-FCB43CE2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45AE9-D339-4815-A649-F7CF44F4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C1846-D111-46F2-8B20-C7B48A91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66441-99DC-45F7-A438-D618D2C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40D77-ACE1-4FF6-A756-8E083BE5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10E0-9DD9-4E78-B989-C282895F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1D1169-D445-47FD-A273-A0DDEA59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F00FB1-E12E-4D8B-85AD-B4FAC777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1D3E9-FE1D-4558-A9D7-1FFD0608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7FC1E8-E025-4CEB-A379-9E29257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4F2EF5-C283-4C9C-A47A-3E441D1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48B66F-D175-4141-9478-F353611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873CC5-8247-4C0D-AFAB-F03E0F51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6323A4-FDC3-4248-8322-63E1FF4A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E06D00-6C58-456D-A143-8B8FB6F2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8FF74-7965-4962-8B3A-53C0D8F0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668A-C5E3-4076-BA70-C9691A7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8CA60E-D3FA-49C1-A708-276BE44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3C52E8-CF9E-4162-8920-09E8289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1332C4-099B-444D-BEF2-56BD67B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9512C-3AB3-47EA-AD08-10581BB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49FCCE-3D6E-461A-8B21-EED4DAEA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EB4E9A-4C58-4F3D-8AB3-1404D4D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C3422E-116B-4B72-A90C-7330BCA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76FDDD-F0AA-4189-9CBB-4720D89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426C72-DD75-46F5-A3FD-9F2CD761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D8E3F5-AB16-40C6-87B9-53A08620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446-688A-496D-9E53-949D7047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E79B-0B40-40F7-8420-B6683FC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0462E1-ACCD-47E2-ACBD-7E9DE6F4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E167FE-E606-4D43-93EE-55813C69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C11B13-F303-4468-99E3-D73E9BF7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57FD09-F42F-4B53-8284-8622EC1B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D0B5BF-DE49-4C99-B232-3D2DAE0F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AAE1D-1A7E-4191-8353-250A9D4D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01AA04-3FD7-4CB3-B473-6FF9A45A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A6B149-2DCB-4AD1-AB60-B20AE52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55A8D6-F46F-4EB0-9DC5-DC63E95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8F3A58-245D-4748-B2C6-8886B23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E136-120D-450F-8C4E-7D47D93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E2139C-2CF6-4645-946C-EE0E74DF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7EAD48-779B-4631-89B1-2CE14331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FC4E1-BA27-466C-8F43-5941A4CE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F69619-FFFE-42C6-8498-EC4C7F42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8C51E0-9EB9-47AB-AD6A-54321AE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CFF5C9-7653-4FCE-B67D-488E97C3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1007A3-4322-4E75-A456-226974C1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DEF7F8-C6EB-4A7B-8631-404CE9EB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934832-63BF-4149-B20F-FF5FA06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75D71C-AA6D-419B-BDF2-AA179992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ED67-A28F-43A8-914C-BC08926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6619BF-E772-4CA8-B697-5C646D35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65E963-8BD4-403B-B123-564E198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5DB9A3-EC4F-4A15-ACA1-BF8ADA1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EACE65-4539-4109-BD1C-9E00F741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68B337-EAB0-430F-B8B3-56B6ED78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957196-74CF-4BBF-BDCF-3EBBE0F5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5699F4-E37E-4491-B04F-E0A759B5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FE64FD-95FF-4DEF-892A-7D25DC66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36A55F-4EBF-41EA-987C-FA556456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EB98B-BD1E-4CE1-A313-102AF63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EFBE-5918-4D83-89DB-4F97F41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822916-416B-4C18-BE3C-4D3D561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BB6621-9DA1-41FB-B4C1-48A84CA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B4F81A-D39E-44FA-81E0-36A1E4B8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9241D5-C834-4CFB-ACCA-1133E4B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E743D8-4CFB-4EB8-BC62-C09808E0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E77F71-FBD7-4EB3-9A73-B04BECEB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247853-96E1-4425-9599-5556CD43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F2ECDC-A407-4B3D-94DD-AAEABBE9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FF2F96-6C42-4BCC-9A78-BC4FC7E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F737CB-0228-4806-892C-E4F1046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A240C-F539-45D2-8F4A-0DD34682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248533-722F-41D5-9102-7FCD5EBD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6DB51B-3930-4149-8BEA-EC48D5E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B62CCA-AE90-41DE-92E4-8A308903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53DDAC-7070-4C89-BF38-5F606985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9318D3-9085-4800-92C1-54A65888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7126E7-D164-4F54-BA0C-6BB19E4B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771172-B273-42A7-9FB3-C3798DA6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BE76F7-1391-40C6-8264-7F45AA4E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F85744-97C3-47BF-85B2-9AE35941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F40DF0-A2EB-402D-8A51-67DB4B86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9289-2283-4531-8E20-094F7243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A9634C-3F72-4F7A-86B0-945A354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0854C6-4A92-4253-A704-7F9EA7E5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85E6AB-1621-46D8-BFD2-7E9D440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1F9D40-D28F-4550-BAF7-40785A33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3548D7-392F-4089-B336-785C05B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E6B4A0-308E-4407-9646-9125A23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3F6055-09D7-426F-BD58-C57A0A21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7B844E-4C30-4DE5-A404-D5B06E2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147FF0-96D3-4265-9CD6-1D1A21A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AA402F-C7F5-426E-8F64-06747629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F5C4-A7FC-4670-B202-7E2CBE06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6A31DC-250B-475F-9FBC-DCE77B6D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6A9F4B-575D-4644-B02A-D7416C1D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CE3BE8-46F9-424F-9CE6-C2F40B9D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733BBD-7285-47A1-8D68-313FD3E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4C7605-C487-49B1-AA61-123AB49D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310AE4-5C47-4069-9BCE-F3EBA10E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1132A3-B7CA-4B13-9650-74E403B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AF560C-663D-4ADE-94C0-A61E4BF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5F5A10-8211-4E34-A065-ED2BCC09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C9062D-8421-4D9D-8C97-F91479F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E077-D8B6-4B52-8B88-40B4F547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6912E0-215D-4300-BC1C-9C93FEED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E2284D-8C10-499B-B168-8163E40C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25F989-0B47-4936-9552-BC308681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032E-4C1F-43B7-9770-21B4E016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333D-0403-41A1-A812-3BC8EB4D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1E0-CC05-4A01-9921-CCC64DA7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F134-66AC-4DEC-AB49-E1D6090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204F2-88DD-409F-9D7E-5EA250F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5B62-12EF-4917-81C2-C3128A0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6A55-38C7-4DDD-9151-34D442A6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3129-6E87-4353-9D99-DD5AAB47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AC13-F271-4C8C-ACEF-CD9512C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578B-B57A-4FBC-B26B-5B5C01E8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F2FD-44BC-4700-A5B9-4633B8D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2D95-168B-4AC4-A54A-AE853E2F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A46E-814F-430E-9AFD-AC50C0AB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25D-BB4A-4F0D-81BE-783AC33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D1EAF-C3C0-448E-962D-FFD5ADA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2301-800E-47D5-833A-C50D9A89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66489-5113-4D40-A07A-D314237D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75F6-CFE4-48ED-BEDE-C7CA0B7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624DE-CA62-45FD-8BC4-F375FB1B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01DF-0502-4CEB-A8AB-E2284694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8978-145B-4762-9533-997CC592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9844-1119-4BAF-992D-6A02D51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72A88-7048-4859-9F68-1C3EE21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5B80-C3C7-485E-95AB-7FCB01FC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3BE-96A7-41B9-A411-187E1C0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B9E0-F0AA-4617-9179-4511658C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051A9-D8FB-42D3-8BE3-AAF5431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BB2A-0E79-4E6E-9520-1A785555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05B0-F04E-434F-B4D2-E8A89C34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9C78-A93F-401D-99C6-0ECBA5E7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11B5C-09D9-44FA-9942-C9A6F961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3C45A-1B32-43CC-853C-1981171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80AFF-A3B0-40A3-BA2E-956E42F1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464F-C2B5-4D30-9130-F5FBA30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6371-261F-4D8A-9D5E-D314CBD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2B8-CB5D-4E82-B55F-CF92DE5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9664-820E-4115-B98F-36DD09C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68322-C077-4BAD-8BF2-557A6B2B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71881-942B-47A3-A744-BA96CE3A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EF0F-E692-464F-8993-11C530AF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A0B7-A1D1-4E81-BDF5-AC6415E6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1645-2DC5-48FA-824D-BE0F3CD7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D58A-22A3-458B-A507-71E6865B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9D246-5AC0-4558-909C-CC86DC59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30E4-BB48-47AC-B2EC-EAB190F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018E-D31C-4758-A8CE-D7A5C191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283-5C96-42F1-95B1-1B5B204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6E3C-23FF-4825-B94F-0E4B665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4384-A886-4D35-887B-09B5165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8FAC-F67A-401D-B0EA-0C0A544F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965FD-9719-4EFC-8D47-CB0886EA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60B0B-EE8E-47C9-B198-F66496F1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E9859-1BCB-4B0E-BE37-E2635085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E26F-3FEE-463C-B7D4-53BB5BC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EEC8-3131-4E58-BF37-0AB686D6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165B-FCA9-4E2E-9034-7F0DA3A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1D22-6C8B-415E-999C-CFA0B896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0B5-07F6-45DD-8918-A6CD7722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DE114-406B-4027-8A11-91F43B2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6A79-4EFB-4ECE-871D-EA06542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689F-BFAD-4AA1-B9EB-7EE01C10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A274-1F10-49C0-A7EB-88F9896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9369-64A6-47BF-B3E0-2B94207B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7D3E8-BA3E-4AFE-AB67-A6FE9057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45D23-A892-41AA-946A-A9DB7330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2FEC3-F2E3-4F22-B3F9-DCBD0CD3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1EE6F-ADDC-4C4C-8150-018EE370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AFBF-3262-48D9-AB72-E8E7D89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D9CE-6662-4A43-AD69-9B31362232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6CA3-02A0-4B9D-BE00-0290C39C98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37B9-B7E1-4F51-86E3-0889A5543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029E-67FD-4BA1-95A3-75E8869CBA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51D-FDD6-4A3B-9BAF-9ED71092F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EAE7-A54F-47B2-A6C8-3656228C74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B8C7-80D3-4060-8E75-7F9DA817CF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AF68-434B-4230-8B52-1C99A1C86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7CE-4E01-4637-9305-CAA7433AD6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E7A5-79FE-4DF7-B9B2-6460E902F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DF7-3110-40DB-A2A3-E0821F814F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0C67-E581-4DB3-B9E8-277310D18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3BE7-9884-4C00-8713-12873E3E3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401E-AD60-4D20-BFCF-2CE43363F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9CE-0FA3-4947-A39B-959B3EFF4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AB05-D195-43FA-B7B3-1C77FF18A2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227-61A6-4C35-9AE1-35635A6F3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9F4-1A1F-4263-B5C4-3AB85DF9B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57F6-C3EA-4BED-9D6B-4D9D565FC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10C1-74AF-4C99-82A9-BD80909131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357B-6D50-46E4-855F-400A7988AA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188F-378B-4994-9EF9-69D404115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FE8-E565-417E-AECC-94DB1A161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4C5-E526-42ED-B6E3-47A2481336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231-E28F-4A09-BEB5-0B68D9DB2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67CB-9F2A-473F-9927-8BF8F34A69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E4B-E2B6-4D8F-BD6C-9A119841A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E91D-7F54-433F-A14F-F034517F7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331A-020C-4693-99E3-D69F4B561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DE81-58B7-43D5-8460-B6170BD388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ADD-8CF3-45C8-80F3-975589C59E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F51-2183-42DE-B7B9-FB1B8FBBC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69BC-9E2C-4195-8809-FF31812A2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DD6-55CA-43E8-96EC-F9E022E31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94E1-D54E-46A1-8264-4670A1E1D8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3C8B-72AC-4B97-AF8E-D85A3DC34A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F84-CABB-4F99-B311-6E0CED4B49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4D47-66D7-4EE3-8126-0ADE2799F9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1EE-C083-47EC-A86E-C020F21FC4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335A-9B60-4304-BD71-0DFCDC470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FC74-236A-4AB4-9665-EEDFCFD87F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3665-90BD-4D13-9547-E0BEEFD35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9B3-CF7B-4A6A-990B-25F09F5BBE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BE9A-A3AE-4410-BD80-91218F7D0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0583-FF09-4A3E-B2F3-BF3FFCBD3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B9DC-D1DA-4F08-8899-911273FD59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6BC-890E-4B02-8377-204D55E17E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FA3C-94C6-44B4-B152-ED40A3B99C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543E-2361-4B6B-A754-6C0F2F1DE5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D69-3989-445B-A258-E2D2A7E118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581200" y="3038400"/>
            <a:ext cx="39816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79873" descr=""/>
          <p:cNvPicPr/>
          <p:nvPr/>
        </p:nvPicPr>
        <p:blipFill>
          <a:blip r:embed="rId1"/>
          <a:stretch/>
        </p:blipFill>
        <p:spPr>
          <a:xfrm>
            <a:off x="504720" y="1576440"/>
            <a:ext cx="8134560" cy="37051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79874"/>
          <p:cNvSpPr/>
          <p:nvPr/>
        </p:nvSpPr>
        <p:spPr>
          <a:xfrm>
            <a:off x="5062680" y="258588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78849" descr=""/>
          <p:cNvPicPr/>
          <p:nvPr/>
        </p:nvPicPr>
        <p:blipFill>
          <a:blip r:embed="rId1"/>
          <a:stretch/>
        </p:blipFill>
        <p:spPr>
          <a:xfrm>
            <a:off x="504720" y="2000160"/>
            <a:ext cx="8134560" cy="28576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78850"/>
          <p:cNvSpPr/>
          <p:nvPr/>
        </p:nvSpPr>
        <p:spPr>
          <a:xfrm>
            <a:off x="7434360" y="3860640"/>
            <a:ext cx="360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78851"/>
          <p:cNvSpPr/>
          <p:nvPr/>
        </p:nvSpPr>
        <p:spPr>
          <a:xfrm>
            <a:off x="2538360" y="4317840"/>
            <a:ext cx="738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78852"/>
          <p:cNvSpPr/>
          <p:nvPr/>
        </p:nvSpPr>
        <p:spPr>
          <a:xfrm>
            <a:off x="5595840" y="4317840"/>
            <a:ext cx="7383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77825" descr=""/>
          <p:cNvPicPr/>
          <p:nvPr/>
        </p:nvPicPr>
        <p:blipFill>
          <a:blip r:embed="rId1"/>
          <a:stretch/>
        </p:blipFill>
        <p:spPr>
          <a:xfrm>
            <a:off x="542880" y="1757520"/>
            <a:ext cx="8058240" cy="33429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77826"/>
          <p:cNvSpPr/>
          <p:nvPr/>
        </p:nvSpPr>
        <p:spPr>
          <a:xfrm>
            <a:off x="5033880" y="4149720"/>
            <a:ext cx="617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77827"/>
          <p:cNvSpPr/>
          <p:nvPr/>
        </p:nvSpPr>
        <p:spPr>
          <a:xfrm>
            <a:off x="1424160" y="4645080"/>
            <a:ext cx="617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76801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086680" cy="43340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76802"/>
          <p:cNvSpPr/>
          <p:nvPr/>
        </p:nvSpPr>
        <p:spPr>
          <a:xfrm>
            <a:off x="1187280" y="2708280"/>
            <a:ext cx="208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4" name="图片 76803" descr=""/>
          <p:cNvPicPr/>
          <p:nvPr/>
        </p:nvPicPr>
        <p:blipFill>
          <a:blip r:embed="rId2"/>
          <a:stretch/>
        </p:blipFill>
        <p:spPr>
          <a:xfrm>
            <a:off x="3419640" y="2637000"/>
            <a:ext cx="37717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89089" descr=""/>
          <p:cNvPicPr/>
          <p:nvPr/>
        </p:nvPicPr>
        <p:blipFill>
          <a:blip r:embed="rId1"/>
          <a:stretch/>
        </p:blipFill>
        <p:spPr>
          <a:xfrm>
            <a:off x="519120" y="1419120"/>
            <a:ext cx="8105760" cy="4019760"/>
          </a:xfrm>
          <a:prstGeom prst="rect">
            <a:avLst/>
          </a:prstGeom>
          <a:ln w="0">
            <a:noFill/>
          </a:ln>
        </p:spPr>
      </p:pic>
      <p:sp>
        <p:nvSpPr>
          <p:cNvPr id="1476" name="矩形 89090"/>
          <p:cNvSpPr/>
          <p:nvPr/>
        </p:nvSpPr>
        <p:spPr>
          <a:xfrm>
            <a:off x="1116000" y="3429000"/>
            <a:ext cx="208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7" name="图片 89091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238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90113" descr=""/>
          <p:cNvPicPr/>
          <p:nvPr/>
        </p:nvPicPr>
        <p:blipFill>
          <a:blip r:embed="rId1"/>
          <a:stretch/>
        </p:blipFill>
        <p:spPr>
          <a:xfrm>
            <a:off x="533520" y="1709640"/>
            <a:ext cx="8076960" cy="34387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90115"/>
          <p:cNvSpPr/>
          <p:nvPr/>
        </p:nvSpPr>
        <p:spPr>
          <a:xfrm>
            <a:off x="4116240" y="3800520"/>
            <a:ext cx="34084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0116"/>
          <p:cNvSpPr/>
          <p:nvPr/>
        </p:nvSpPr>
        <p:spPr>
          <a:xfrm>
            <a:off x="3621240" y="4248000"/>
            <a:ext cx="6634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1137" descr=""/>
          <p:cNvPicPr/>
          <p:nvPr/>
        </p:nvPicPr>
        <p:blipFill>
          <a:blip r:embed="rId1"/>
          <a:stretch/>
        </p:blipFill>
        <p:spPr>
          <a:xfrm>
            <a:off x="757080" y="1542960"/>
            <a:ext cx="7629840" cy="377208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1138"/>
          <p:cNvSpPr/>
          <p:nvPr/>
        </p:nvSpPr>
        <p:spPr>
          <a:xfrm>
            <a:off x="3868560" y="2019240"/>
            <a:ext cx="1135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1139"/>
          <p:cNvSpPr/>
          <p:nvPr/>
        </p:nvSpPr>
        <p:spPr>
          <a:xfrm>
            <a:off x="5316480" y="3000240"/>
            <a:ext cx="2927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1140"/>
          <p:cNvSpPr/>
          <p:nvPr/>
        </p:nvSpPr>
        <p:spPr>
          <a:xfrm>
            <a:off x="1344600" y="3457440"/>
            <a:ext cx="207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92161" descr=""/>
          <p:cNvPicPr/>
          <p:nvPr/>
        </p:nvPicPr>
        <p:blipFill>
          <a:blip r:embed="rId1"/>
          <a:stretch/>
        </p:blipFill>
        <p:spPr>
          <a:xfrm>
            <a:off x="480960" y="1162080"/>
            <a:ext cx="8182080" cy="453384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2162"/>
          <p:cNvSpPr/>
          <p:nvPr/>
        </p:nvSpPr>
        <p:spPr>
          <a:xfrm>
            <a:off x="4830840" y="1762200"/>
            <a:ext cx="6048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2163"/>
          <p:cNvSpPr/>
          <p:nvPr/>
        </p:nvSpPr>
        <p:spPr>
          <a:xfrm>
            <a:off x="1068480" y="2238480"/>
            <a:ext cx="1127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92164"/>
          <p:cNvSpPr/>
          <p:nvPr/>
        </p:nvSpPr>
        <p:spPr>
          <a:xfrm>
            <a:off x="4573440" y="3666960"/>
            <a:ext cx="5749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92165"/>
          <p:cNvSpPr/>
          <p:nvPr/>
        </p:nvSpPr>
        <p:spPr>
          <a:xfrm>
            <a:off x="4040280" y="4648320"/>
            <a:ext cx="747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095640" cy="73368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376200" y="1838160"/>
            <a:ext cx="8391600" cy="31816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5886360" y="1714680"/>
            <a:ext cx="1057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6000840" y="2381400"/>
            <a:ext cx="1235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3067200" y="2781360"/>
            <a:ext cx="784080" cy="29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2390760" y="3133800"/>
            <a:ext cx="7840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1333440" y="3448080"/>
            <a:ext cx="7174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2"/>
          <p:cNvSpPr/>
          <p:nvPr/>
        </p:nvSpPr>
        <p:spPr>
          <a:xfrm>
            <a:off x="1143000" y="3781440"/>
            <a:ext cx="76500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3"/>
          <p:cNvSpPr/>
          <p:nvPr/>
        </p:nvSpPr>
        <p:spPr>
          <a:xfrm>
            <a:off x="5124600" y="3772080"/>
            <a:ext cx="7650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4"/>
          <p:cNvSpPr/>
          <p:nvPr/>
        </p:nvSpPr>
        <p:spPr>
          <a:xfrm>
            <a:off x="5429160" y="4105440"/>
            <a:ext cx="6555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5"/>
          <p:cNvSpPr/>
          <p:nvPr/>
        </p:nvSpPr>
        <p:spPr>
          <a:xfrm>
            <a:off x="8429760" y="4095720"/>
            <a:ext cx="3189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6"/>
          <p:cNvSpPr/>
          <p:nvPr/>
        </p:nvSpPr>
        <p:spPr>
          <a:xfrm>
            <a:off x="657360" y="4410000"/>
            <a:ext cx="3189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7"/>
          <p:cNvSpPr/>
          <p:nvPr/>
        </p:nvSpPr>
        <p:spPr>
          <a:xfrm>
            <a:off x="7629480" y="4438800"/>
            <a:ext cx="54288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7041" descr=""/>
          <p:cNvPicPr/>
          <p:nvPr/>
        </p:nvPicPr>
        <p:blipFill>
          <a:blip r:embed="rId1"/>
          <a:stretch/>
        </p:blipFill>
        <p:spPr>
          <a:xfrm>
            <a:off x="352440" y="1224000"/>
            <a:ext cx="8439120" cy="44100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7042"/>
          <p:cNvSpPr/>
          <p:nvPr/>
        </p:nvSpPr>
        <p:spPr>
          <a:xfrm>
            <a:off x="8101080" y="2276640"/>
            <a:ext cx="36036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7043"/>
          <p:cNvSpPr/>
          <p:nvPr/>
        </p:nvSpPr>
        <p:spPr>
          <a:xfrm>
            <a:off x="5796000" y="465300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86017" descr=""/>
          <p:cNvPicPr/>
          <p:nvPr/>
        </p:nvPicPr>
        <p:blipFill>
          <a:blip r:embed="rId1"/>
          <a:stretch/>
        </p:blipFill>
        <p:spPr>
          <a:xfrm>
            <a:off x="324000" y="2100240"/>
            <a:ext cx="8496000" cy="2657520"/>
          </a:xfrm>
          <a:prstGeom prst="rect">
            <a:avLst/>
          </a:prstGeom>
          <a:ln w="0">
            <a:noFill/>
          </a:ln>
        </p:spPr>
      </p:pic>
      <p:sp>
        <p:nvSpPr>
          <p:cNvPr id="1450" name="矩形 86018"/>
          <p:cNvSpPr/>
          <p:nvPr/>
        </p:nvSpPr>
        <p:spPr>
          <a:xfrm>
            <a:off x="611280" y="2781360"/>
            <a:ext cx="15127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图片 86019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90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84993" descr=""/>
          <p:cNvPicPr/>
          <p:nvPr/>
        </p:nvPicPr>
        <p:blipFill>
          <a:blip r:embed="rId1"/>
          <a:stretch/>
        </p:blipFill>
        <p:spPr>
          <a:xfrm>
            <a:off x="347760" y="1062000"/>
            <a:ext cx="8448480" cy="473400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4995"/>
          <p:cNvSpPr/>
          <p:nvPr/>
        </p:nvSpPr>
        <p:spPr>
          <a:xfrm>
            <a:off x="8196120" y="147168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4996"/>
          <p:cNvSpPr/>
          <p:nvPr/>
        </p:nvSpPr>
        <p:spPr>
          <a:xfrm>
            <a:off x="3948120" y="5186520"/>
            <a:ext cx="552600" cy="26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4997"/>
          <p:cNvSpPr/>
          <p:nvPr/>
        </p:nvSpPr>
        <p:spPr>
          <a:xfrm>
            <a:off x="7682040" y="5205240"/>
            <a:ext cx="55224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83969" descr=""/>
          <p:cNvPicPr/>
          <p:nvPr/>
        </p:nvPicPr>
        <p:blipFill>
          <a:blip r:embed="rId1"/>
          <a:stretch/>
        </p:blipFill>
        <p:spPr>
          <a:xfrm>
            <a:off x="528480" y="971640"/>
            <a:ext cx="8087040" cy="49147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83970"/>
          <p:cNvSpPr/>
          <p:nvPr/>
        </p:nvSpPr>
        <p:spPr>
          <a:xfrm>
            <a:off x="7812000" y="256536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2945" descr=""/>
          <p:cNvPicPr/>
          <p:nvPr/>
        </p:nvPicPr>
        <p:blipFill>
          <a:blip r:embed="rId1"/>
          <a:stretch/>
        </p:blipFill>
        <p:spPr>
          <a:xfrm>
            <a:off x="995400" y="2028960"/>
            <a:ext cx="71532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1921" descr=""/>
          <p:cNvPicPr/>
          <p:nvPr/>
        </p:nvPicPr>
        <p:blipFill>
          <a:blip r:embed="rId1"/>
          <a:stretch/>
        </p:blipFill>
        <p:spPr>
          <a:xfrm>
            <a:off x="611280" y="752400"/>
            <a:ext cx="8010360" cy="61056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1922"/>
          <p:cNvSpPr/>
          <p:nvPr/>
        </p:nvSpPr>
        <p:spPr>
          <a:xfrm>
            <a:off x="7881840" y="125244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0897" descr=""/>
          <p:cNvPicPr/>
          <p:nvPr/>
        </p:nvPicPr>
        <p:blipFill>
          <a:blip r:embed="rId1"/>
          <a:stretch/>
        </p:blipFill>
        <p:spPr>
          <a:xfrm>
            <a:off x="480960" y="1809720"/>
            <a:ext cx="8182080" cy="32385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0898"/>
          <p:cNvSpPr/>
          <p:nvPr/>
        </p:nvSpPr>
        <p:spPr>
          <a:xfrm>
            <a:off x="5605560" y="2852640"/>
            <a:ext cx="36036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4:28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